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EFE4-88D5-443B-965E-D13AFCCD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1F65-0759-4F69-A0E2-14B4FAAB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ndasthumb.org/archives/2015/03/if-you-follow-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lideshare.net/pubudu/genomics (from slideshow made by: Wayamba University Sri Lank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5839-1E38-4BE8-9B71-2BFCE372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415A-EFBA-4538-BBBC-201DC9DF1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E48-139A-49AF-889A-22E45D04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tariogenomics.ca/media-centre/news/2011-9-07/6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2011 campaign to increase awareness of genomic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F71-9F99-4636-8B64-8EA29FE0E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tariogenomics.ca/media-centre/news/2011-9-07/6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2011 campaign to increase awareness of genomic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1781-94EF-4C26-8B89-2C3133C3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tariogenomics.ca/media-centre/news/2011-9-07/6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2011 campaign to increase awareness of genomic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6F76-4032-4956-A1BE-48E14729D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1345-6D02-4E1F-9A49-477979E0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from: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http://ghr.nlm.nih.gov/handbook/hgp/genome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BB99-3F6C-4FCB-8D18-84CBEF2DC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gugenetics.pbworks.com/w/page/38231663/The%20Human%20Genome%20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610A-2907-4EB9-A2C4-D5714218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og.gurukpo.com/human-genome-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6F65-F863-43FE-929B-757A6BE6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bus.gsu.edu/1animal/animalmo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5005-D159-4335-9695-2A7C711B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9F3E-2085-4C7F-9A74-07C85AAC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from viru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1AF3-B4B8-418F-AA82-C0CF317B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0E2B-EC77-4D8B-86B8-68AEC7241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4F7-0B33-4D73-98AA-80FB90CC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1BA-BDFB-4F7E-8239-A160A5ED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1E7-F69B-420C-87E6-A6A82C18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D58-9D07-408A-BF8E-F955B9B8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0D1-03B0-4AFC-B20A-FD5EEB38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89F-BAAE-47C9-B4E1-5B70E93A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549-2E15-46EB-BADF-AEA69524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281-67AE-425B-9287-DE697515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7DD-E6EA-4845-ACEF-1A99A5E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3C-F83B-41A9-A525-6933EB2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AE5-9656-41BA-A922-9A99166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96A-EB0A-4609-AC4B-C6766371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75AF-CAE9-4014-A2AA-5332B16D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heglobeandmail.com/report-on-business/toronto-startup-aims-to-shake-up-genome-sequencing-market/article25612065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2204640"/>
            <a:ext cx="590400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es &amp; Gene Organization (7.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genomics-83-728.jpg"/>
          <p:cNvPicPr/>
          <p:nvPr/>
        </p:nvPicPr>
        <p:blipFill>
          <a:blip r:embed="rId1"/>
          <a:srcRect l="-3447" t="0" r="-3447" b="0"/>
          <a:stretch/>
        </p:blipFill>
        <p:spPr>
          <a:xfrm>
            <a:off x="755640" y="692280"/>
            <a:ext cx="770256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ario Genomics 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private, not-for-profit corporation focused on using world class research to create strategic genomics resources and accelerate Ontari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development of a globally competitive life sciences sector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ontariogenomics.c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ANCER"/>
          <p:cNvPicPr/>
          <p:nvPr/>
        </p:nvPicPr>
        <p:blipFill>
          <a:blip r:embed="rId1"/>
          <a:stretch/>
        </p:blipFill>
        <p:spPr>
          <a:xfrm>
            <a:off x="2739960" y="609480"/>
            <a:ext cx="366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UNGER"/>
          <p:cNvPicPr/>
          <p:nvPr/>
        </p:nvPicPr>
        <p:blipFill>
          <a:blip r:embed="rId1"/>
          <a:stretch/>
        </p:blipFill>
        <p:spPr>
          <a:xfrm>
            <a:off x="2739960" y="609480"/>
            <a:ext cx="366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OILSPILLS"/>
          <p:cNvPicPr/>
          <p:nvPr/>
        </p:nvPicPr>
        <p:blipFill>
          <a:blip r:embed="rId1"/>
          <a:stretch/>
        </p:blipFill>
        <p:spPr>
          <a:xfrm>
            <a:off x="2739960" y="609480"/>
            <a:ext cx="366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News in 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Globe &amp; Mail in July 2015, there was an article about a recent startup in Toronto called Deep Genomics started by a U of T computer scientist.  Diagnosing your DNA for personalize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article onlin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gen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s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mplete set of DNA, including all of its gene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enome_project_cartoon"/>
          <p:cNvPicPr/>
          <p:nvPr/>
        </p:nvPicPr>
        <p:blipFill>
          <a:blip r:embed="rId1"/>
          <a:stretch/>
        </p:blipFill>
        <p:spPr>
          <a:xfrm>
            <a:off x="1565280" y="1981080"/>
            <a:ext cx="601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3886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the entire human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location &amp; structure of many g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genome of other organisms (including yeast, roundworm, fruit f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31" descr="metal-gear-solid-human-genome-project-big"/>
          <p:cNvPicPr/>
          <p:nvPr/>
        </p:nvPicPr>
        <p:blipFill>
          <a:blip r:embed="rId1"/>
          <a:stretch/>
        </p:blipFill>
        <p:spPr>
          <a:xfrm>
            <a:off x="4648320" y="1892160"/>
            <a:ext cx="38098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nimaldiv1"/>
          <p:cNvPicPr/>
          <p:nvPr/>
        </p:nvPicPr>
        <p:blipFill>
          <a:blip r:embed="rId1"/>
          <a:stretch/>
        </p:blipFill>
        <p:spPr>
          <a:xfrm>
            <a:off x="971640" y="1981080"/>
            <a:ext cx="720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genomes ar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geno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2% codes for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% is in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is between the genes (50% of total is non-func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4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 in the non-coding DNA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 number tandem repeats (VNTR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icro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(long interspersed nuclear elements); about 6500 bp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Es (short interspersed nuclear elements); about 500 bp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s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nsposable elements) are small sequences of DNA that can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eudo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 to existing genes (mutated versions of ancestral gen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size co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mmal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300x larger th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but almost the same number of genes in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of organisms is more likely relat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ganization &amp; reg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ther than the size of the 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3:37:16Z</dcterms:created>
  <dc:creator>rubina khan</dc:creator>
  <dc:description/>
  <dc:language>en-US</dc:language>
  <cp:lastModifiedBy>rubina khan</cp:lastModifiedBy>
  <dcterms:modified xsi:type="dcterms:W3CDTF">2017-04-06T14:01:27Z</dcterms:modified>
  <cp:revision>63</cp:revision>
  <dc:subject/>
  <dc:title>PowerPoint Presentation</dc:title>
</cp:coreProperties>
</file>